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2AB-131F-460A-8E50-FD04CD0D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87E-FB0D-4AC4-9439-7D1764B8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0DE-E094-4ADF-AFE5-CC8C460C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81F-C2B6-4969-BB59-CAB3D898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BA4-448B-41C6-892D-7C7E0C3F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F1D-2C9D-4639-9DCB-ED4D4DDC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0D8-B323-4AB3-9981-68781A65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7AF-9705-40E8-96CF-D62269DB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0F1-EF68-4399-A115-2DEF27D6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48C-C660-4D31-A2EB-246D93C3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42A-6566-4C95-B97E-8EB53B17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A10-3F5D-48E6-B52D-32E619C2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5FCC-123C-45D2-9F78-F7A50470E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lan Sailors and a picture goes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6"/>
          <p:cNvSpPr/>
          <p:nvPr/>
        </p:nvSpPr>
        <p:spPr>
          <a:xfrm>
            <a:off x="685800" y="42670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zong- a Buddhist center of prayer a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52560" y="-885960"/>
            <a:ext cx="253332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://t0.gstatic.com/images?q=tbn:ANd9GcQ9aZ-GBd2B62Bu4VFb3Rq5lDMbmbIo6rykJxYJRrXcv8Y211jp"/>
          <p:cNvPicPr/>
          <p:nvPr/>
        </p:nvPicPr>
        <p:blipFill>
          <a:blip r:embed="rId1"/>
          <a:stretch/>
        </p:blipFill>
        <p:spPr>
          <a:xfrm>
            <a:off x="1523880" y="631800"/>
            <a:ext cx="36576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609480" y="3276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soon – A  seasonal wind that blows for months at a time, affecting the 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t2.gstatic.com/images?q=tbn:ANd9GcT_HkTwlS8v9Yh4LbrEWSG7lHAgikukMmdigrhxRt7sC-53ZpGH0Q"/>
          <p:cNvPicPr/>
          <p:nvPr/>
        </p:nvPicPr>
        <p:blipFill>
          <a:blip r:embed="rId1"/>
          <a:stretch/>
        </p:blipFill>
        <p:spPr>
          <a:xfrm>
            <a:off x="2362320" y="304920"/>
            <a:ext cx="47242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1219320" y="3886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te- a plant fiber used for making rope, burlap bag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t3.gstatic.com/images?q=tbn:ANd9GcTeKQ50e8oHh1WA9xrmigWSG2ffAs7wZd8K8kHeIJI2PetxkAQG"/>
          <p:cNvPicPr/>
          <p:nvPr/>
        </p:nvPicPr>
        <p:blipFill>
          <a:blip r:embed="rId1"/>
          <a:stretch/>
        </p:blipFill>
        <p:spPr>
          <a:xfrm>
            <a:off x="2362320" y="376200"/>
            <a:ext cx="388620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6"/>
          <p:cNvSpPr/>
          <p:nvPr/>
        </p:nvSpPr>
        <p:spPr>
          <a:xfrm>
            <a:off x="1371600" y="3733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ttage Industry-  a home or village based industry where family members make their goo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http://t3.gstatic.com/images?q=tbn:ANd9GcTkrtvjgvK8o8AH5YLKDGfTdl3T10ivjloVCWdphOStcfuBNt_DYA"/>
          <p:cNvPicPr/>
          <p:nvPr/>
        </p:nvPicPr>
        <p:blipFill>
          <a:blip r:embed="rId1"/>
          <a:stretch/>
        </p:blipFill>
        <p:spPr>
          <a:xfrm>
            <a:off x="2743200" y="533520"/>
            <a:ext cx="43434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7"/>
          <p:cNvSpPr/>
          <p:nvPr/>
        </p:nvSpPr>
        <p:spPr>
          <a:xfrm>
            <a:off x="1219320" y="64882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es – your social class that is based  on your anc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http://t2.gstatic.com/images?q=tbn:ANd9GcTXEWPKKY2g951PjnhNinJqf4x-xe-R47YrKYtYW6vs03hPMxnx"/>
          <p:cNvPicPr/>
          <p:nvPr/>
        </p:nvPicPr>
        <p:blipFill>
          <a:blip r:embed="rId1"/>
          <a:stretch/>
        </p:blipFill>
        <p:spPr>
          <a:xfrm>
            <a:off x="0" y="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990720" y="45720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carnation – a belief in the rebirth of a person’s soul in a new body after de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t1.gstatic.com/images?q=tbn:ANd9GcRAjoizPtMpZc30iyBt2-3htMhCI1L-4GW3khekwxjRTqICL90cGg"/>
          <p:cNvPicPr/>
          <p:nvPr/>
        </p:nvPicPr>
        <p:blipFill>
          <a:blip r:embed="rId1"/>
          <a:stretch/>
        </p:blipFill>
        <p:spPr>
          <a:xfrm>
            <a:off x="2743200" y="5335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7"/>
          <p:cNvSpPr/>
          <p:nvPr/>
        </p:nvSpPr>
        <p:spPr>
          <a:xfrm>
            <a:off x="685800" y="44956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one – an intense storm with heavy rain and high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52560" y="-863640"/>
            <a:ext cx="260028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52560" y="-863640"/>
            <a:ext cx="260028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52560" y="-863640"/>
            <a:ext cx="260028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http://www.mapsofworld.com/hurricane/mechanism-of-tropical-cyclone.jpg"/>
          <p:cNvPicPr/>
          <p:nvPr/>
        </p:nvPicPr>
        <p:blipFill>
          <a:blip r:embed="rId1"/>
          <a:stretch/>
        </p:blipFill>
        <p:spPr>
          <a:xfrm>
            <a:off x="1447920" y="304920"/>
            <a:ext cx="5076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6"/>
          <p:cNvSpPr/>
          <p:nvPr/>
        </p:nvSpPr>
        <p:spPr>
          <a:xfrm>
            <a:off x="1066680" y="39625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icides- powerful chemicals that kill crop destroying ins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52560" y="-1182600"/>
            <a:ext cx="18856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ttp://t3.gstatic.com/images?q=tbn:ANd9GcT3JKUmKIeACBql6995n97MQgJTCWdu_TmVS_4yf9f0ll9pYjc87w"/>
          <p:cNvPicPr/>
          <p:nvPr/>
        </p:nvPicPr>
        <p:blipFill>
          <a:blip r:embed="rId1"/>
          <a:stretch/>
        </p:blipFill>
        <p:spPr>
          <a:xfrm>
            <a:off x="1828800" y="380880"/>
            <a:ext cx="57913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9T15:59:43Z</dcterms:modified>
  <cp:revision>6</cp:revision>
  <dc:subject/>
  <dc:title>Chapter 5 – India Vocabulary</dc:title>
</cp:coreProperties>
</file>